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A482-D771-48D3-8F47-F85DAEB2C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D425-5599-49CC-8BC7-70D057625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374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7-</a:t>
            </a:r>
            <a:fld id="{39EAE695-1A8E-417F-9909-8EE5CAFD1C6A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9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come Effects of Alternative Inventory Costing Mode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pacity and Absorption Cost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8440" y="1203480"/>
            <a:ext cx="8145720" cy="504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ing theoretical capacity or practical capacity as the denominator reduces the amount of fixed manufacturing overhead assigned to inventory and increases the production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nada Customs and Revenue Agency (CCRA) does not allow the use of theoretical or practical capacity in determining taxable incom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considering which denominator to use keep in mind that the resultant cost information will be used for product costing and capacity management, pricing, performance evaluation, and foreca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8 - 33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sorption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3818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sorption costing income stat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full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assify costs based on func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y composed of variable and fixed production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t income is function of sales and 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3 - 3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4038480"/>
            <a:ext cx="4038480" cy="22280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nufactur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rket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ing income stat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direct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assify costs based on behavi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y composed of variable production costs on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t income is a function of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3 - 3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3733920"/>
            <a:ext cx="3886200" cy="22280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Va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xe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aring the Two Income Stat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355400"/>
            <a:ext cx="8001000" cy="43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 in net income between a variable costing income statement and an absorption costing income statement is due to the treatment of fixed manufactur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manufacturing costs are treated as a period cost under variable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manufacturing costs are treated as an inventoriable (product) cost under absorption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6 - 3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the Two Income Statements Diff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362320"/>
            <a:ext cx="2666880" cy="3568680"/>
          </a:xfrm>
          <a:prstGeom prst="rect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Va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xe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2362320"/>
            <a:ext cx="2743200" cy="3454560"/>
          </a:xfrm>
          <a:prstGeom prst="rect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rket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7712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sorp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895120" y="3124080"/>
            <a:ext cx="3277080" cy="1604880"/>
            <a:chOff x="2895120" y="3124080"/>
            <a:chExt cx="3277080" cy="1604880"/>
          </a:xfrm>
        </p:grpSpPr>
        <p:sp>
          <p:nvSpPr>
            <p:cNvPr id="66" name=""/>
            <p:cNvSpPr/>
            <p:nvPr/>
          </p:nvSpPr>
          <p:spPr>
            <a:xfrm>
              <a:off x="3429000" y="3171960"/>
              <a:ext cx="2362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Fix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Manufacturing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Overhea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895120" y="4648320"/>
              <a:ext cx="83844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10080" y="3124080"/>
              <a:ext cx="76212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6 - 3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verting Between the Two Stat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operating income - absorption 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manufacturing costs in ending inventory - fixed manufacturing costs in beginn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00  x $16) - (0 x $16)  =  $3,2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9 - 32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2895480"/>
            <a:ext cx="8610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Units produced - units sold) x fixed manufacturing cost rat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600 - 400) x $16  =  $3,2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572000"/>
            <a:ext cx="8610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Ending inventory units - Beginning inventory units) x fixed manufacturing cost rat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00 units - 0 units) x $16  =  $3,2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7396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formance Evaluation – Absorp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e of the problems with absorption costing that managers can increase operating income in the short run by increasing production independent of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additional units produced absorb some of the fixed costs which are carried forward on the balance sheet rather than being expensed on the income stat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refor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refully monitor inventory leve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a charge for the amount of inventory carried (1% x value of inventory on hand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aluate performance over longer period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530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1 - 32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roughput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8800" y="12034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oughput costing (or super-variable costing) treats all costs except those related to variable direct materials as costs of the period in which they wer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ly variable direct material costs are inventoriab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nce all other production-related costs are expensed on the income statement, management is less motivated to increase inventories (shifting costs from the income statement to the balance shee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ing inventory levels means less funds are tied up in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5 - 32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pacity Concep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8800" y="1203480"/>
            <a:ext cx="8221680" cy="85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y different numbers can be used as “capacity” under absorption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8 - 33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209680"/>
            <a:ext cx="4876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oretical capacity – ideal situation with 100% efficienc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actical capacity – recognize that some downtime is unavoida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ormal capacity – the average output level over a 2-3 year perio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apacity – expected output for the next yea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2438280"/>
            <a:ext cx="32767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,152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800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00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00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7:11:01Z</dcterms:created>
  <dc:creator>User</dc:creator>
  <dc:description/>
  <dc:language>en-US</dc:language>
  <cp:lastModifiedBy>John Moore</cp:lastModifiedBy>
  <cp:lastPrinted>1999-06-03T17:40:12Z</cp:lastPrinted>
  <dcterms:modified xsi:type="dcterms:W3CDTF">2003-03-22T13:13:17Z</dcterms:modified>
  <cp:revision>10</cp:revision>
  <dc:subject/>
  <dc:title>No Slide Title</dc:title>
</cp:coreProperties>
</file>